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2B7-0C7D-4647-86A4-6485D730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E5C-519A-4ED2-8DFD-5BC9B7F5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0A0-55C4-4984-A528-F50C0B7A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9F6-DB8F-4480-A12D-21B4DC17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28B-4389-4A29-A8F8-6BF6EDB1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A43-ED83-402F-8BC1-4DADC1DC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E13-396E-4709-9C1C-84A66CF1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569-3F83-4AE9-9E13-9A3EE76B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894-C062-43EA-8191-EDA6E689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F1D-B77E-4C9E-888B-FEF768D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ED8-D433-47FA-ABAD-564620D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B7E-146C-4DF3-A9B1-EAE4E153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3860-FD12-46F3-B410-E6CFBD55AD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996600"/>
                </a:solidFill>
                <a:latin typeface="Arial"/>
              </a:rPr>
              <a:t>EDIPO R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Referente cinematográ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Resultado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cc6600"/>
                </a:solidFill>
                <a:latin typeface="Arial"/>
              </a:rPr>
              <a:t>En el caso de </a:t>
            </a:r>
            <a:r>
              <a:rPr b="0" i="1" lang="es-ES" sz="2400" spc="-1" strike="noStrike">
                <a:solidFill>
                  <a:srgbClr val="cc6600"/>
                </a:solidFill>
                <a:latin typeface="Arial"/>
              </a:rPr>
              <a:t>Poderosa Afrodita</a:t>
            </a:r>
            <a:r>
              <a:rPr b="0" lang="es-ES" sz="2400" spc="-1" strike="noStrike">
                <a:solidFill>
                  <a:srgbClr val="cc6600"/>
                </a:solidFill>
                <a:latin typeface="Arial"/>
              </a:rPr>
              <a:t>, la investigación tiene un final feliz: Lenny y Amanda resuelven su crisis; y la madre del hijo de aquéllos conoce a un hombre (mediante un </a:t>
            </a:r>
            <a:r>
              <a:rPr b="0" i="1" lang="es-ES" sz="2400" spc="-1" strike="noStrike">
                <a:solidFill>
                  <a:srgbClr val="cc6600"/>
                </a:solidFill>
                <a:latin typeface="Arial"/>
              </a:rPr>
              <a:t>deus ex machina</a:t>
            </a:r>
            <a:r>
              <a:rPr b="0" lang="es-ES" sz="2400" spc="-1" strike="noStrike">
                <a:solidFill>
                  <a:srgbClr val="cc6600"/>
                </a:solidFill>
                <a:latin typeface="Arial"/>
              </a:rPr>
              <a:t>) con el que se une y “tiene” una hija (que es realmente hija de Len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362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Razón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El motivo del comienzo de la investigación en Edipo es el deseo de querer detener la peste que está asoliendo Teb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87640" y="3357720"/>
            <a:ext cx="3200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Objetivo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cc6600"/>
                </a:solidFill>
                <a:latin typeface="Arial"/>
              </a:rPr>
              <a:t>El objetivo de la investigación en esta tragedia es encontrar al asesino de Layo, el antiguo rey de Tebas, el cual abandonó a su hijo atándole los pies por unos vaticinios que decían que su hijo mataría a su padre y se uniría a su mad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64000" y="3344760"/>
            <a:ext cx="25099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Implicación en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Edipo acaba implicándose en la investigación, y esto se sabe gracias a la mención de sus pies torcidos y porque un sirviente de Pólibo y Mérope, reyes de Corinto, afirma que éstos no son sus padres reales, sino que lo acogieron en adopción cuando el mismo sirviente le encontró en el monte Citerón siendo un beb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24163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Resultado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Edipo acaba sabiendo que verdaderamente es él el asesino de Layo, que a la vez es su padre, y que se ha unido a su madre, con la que ha tenido descendencia. Para que nadie reciba el deshonor de su mirada, se arranca los o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43280" y="3645000"/>
            <a:ext cx="31687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996600"/>
                </a:solidFill>
                <a:latin typeface="Arial"/>
              </a:rPr>
              <a:t>Poderosa Afrod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Esta película dirigida por Woody Allen es un ejemplo de un film con el referente de Ed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2771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Razón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La pareja formada por Lenny y Amanda sufre una crisis sentimental tras adoptar a un niño. Lenny, insatisfecho, decide encontrar a la madre biológica de su hi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06920" y="1916280"/>
            <a:ext cx="453708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Objetivo de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cc6600"/>
                </a:solidFill>
                <a:latin typeface="Arial"/>
              </a:rPr>
              <a:t>Lenny quiere encontrar a la madre de su hijo adoptivo para así quizá olvidar la crisis que sufren su pareja y é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4387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00"/>
                </a:solidFill>
                <a:latin typeface="Arial"/>
              </a:rPr>
              <a:t>Implicación en la 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Lenny y la madre de su hijo acaban manteniendo relaciones sexuales. Ésta queda embarazada de él, por lo que Lenny se ve impl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3699000"/>
            <a:ext cx="46087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14:21Z</dcterms:created>
  <dc:creator>Jordi</dc:creator>
  <dc:description/>
  <dc:language>en-US</dc:language>
  <cp:lastModifiedBy>Jordi</cp:lastModifiedBy>
  <dcterms:modified xsi:type="dcterms:W3CDTF">2010-04-18T23:35:22Z</dcterms:modified>
  <cp:revision>2</cp:revision>
  <dc:subject/>
  <dc:title>EDIPO REY</dc:title>
</cp:coreProperties>
</file>